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A899-58AF-43D3-B0C9-43C63D06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D87-63D6-4C44-BAD1-285722BC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9F4-CA1E-4533-822E-86A42120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2C5-02DB-436B-A0C7-F6C4BC7C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1BA-9C3C-4A0A-BC7E-03E8ADF8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E3E-6094-4C6A-82C8-8CFD1794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15B-A997-4B84-813A-C654E8E0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8F4-178B-4B5C-8F06-9EF0585C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7F3-FD6B-45C0-8F5B-9CD7E67D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754-33CC-4DF5-83AF-5E772090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161-E75F-4E7A-A607-437D37AA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874-9472-447B-BEB9-58E64E37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D073-603E-4C56-8422-EE7028F5A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tsalwaystougherinrussia2010.wikispaces.com/file/view/Culture+of+Russia+Part+2+P.1+2010.ppt" TargetMode="External"/><Relationship Id="rId2" Type="http://schemas.openxmlformats.org/officeDocument/2006/relationships/hyperlink" Target="http://itsalwaystougherinrussia2010.wikispaces.com/file/view/LANGUAGE+IN+RUSSIA.ppt" TargetMode="External"/><Relationship Id="rId3" Type="http://schemas.openxmlformats.org/officeDocument/2006/relationships/hyperlink" Target="http://itsalwaystougherinrussia2010.wikispaces.com/file/view/Holidays%2CReligion%2Cand+Folk+Stories+of+Russia+Period+1.ppt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cc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orte"/>
              </a:rPr>
              <a:t>Culture Of Russ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ow to Survive in a Russian House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Before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e on time, no more than 15 minutes later than inv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outdoor shoes, you may be given slippers to 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ss well, clothes that you might wear to the office, dressing well shows respect for your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 to be treated with respect and ho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help to the hostess with the preparation or clearing when the meal is served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During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Manners are necessary, the fork is held in the left hand and the knife in the right hand while 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ldest or most honored guest is served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begin eating until the host invites you to  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helpings are ur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n pour drinks for women next to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et up until you are invited to leave th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Gift Giving Etiqu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es and friends give gifts on birthdays, New Year, and Orthodox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invited to dinner or meal, bring a small g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guests bring f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ive yellow f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ive gifts to a baby until after the baby is born. It is bad luck to do so so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ns often protest against gifts out of politeness, but if you offer the gift again afterwards, it will usually be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elicaci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meals and delicacies ofte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cht – soup made from b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chi – a type of soup made of cabb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roshki – meat styled like turn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linners – a type of rounded pa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er – delicacy – eggs from the Sturgeon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Cred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nformation by Liam Ro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Typed by Carmen Che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Designed by Carmen Che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With help from Anthony F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Other Power poi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on the culture of Russi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By Carmen, Anthony, and L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tsalwaystougherinrussia2010.wikispaces.com/file/view/Culture+of+Russia+Part+2+P.1+2010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tsalwaystougherinrussia2010.wikispaces.com/file/view/LANGUAGE+IN+RUSSIA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tsalwaystougherinrussia2010.wikispaces.com/file/view/Holidays%2CReligion%2Cand+Folk+Stories+of+Russia+Period+1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8:33Z</dcterms:created>
  <dc:creator> </dc:creator>
  <dc:description/>
  <dc:language>en-US</dc:language>
  <cp:lastModifiedBy> </cp:lastModifiedBy>
  <dcterms:modified xsi:type="dcterms:W3CDTF">2010-12-20T18:23:58Z</dcterms:modified>
  <cp:revision>18</cp:revision>
  <dc:subject/>
  <dc:title>Slide 1</dc:title>
</cp:coreProperties>
</file>